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6"/>
          <p:cNvSpPr/>
          <p:nvPr/>
        </p:nvSpPr>
        <p:spPr>
          <a:xfrm>
            <a:off x="1523880" y="5568840"/>
            <a:ext cx="6248520" cy="466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WordArt 12"/>
          <p:cNvSpPr txBox="1"/>
          <p:nvPr/>
        </p:nvSpPr>
        <p:spPr>
          <a:xfrm>
            <a:off x="1981080" y="762120"/>
            <a:ext cx="52578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7a1f00"/>
                  </a:outerShdw>
                </a:effectLst>
                <a:latin typeface="BlackChancery"/>
              </a:rPr>
              <a:t>The Congress</a:t>
            </a: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7a1f00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7a1f00"/>
                  </a:outerShdw>
                </a:effectLst>
                <a:latin typeface="BlackChancery"/>
              </a:rPr>
              <a:t>of</a:t>
            </a: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7a1f00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7a1f00"/>
                  </a:outerShdw>
                </a:effectLst>
                <a:latin typeface="BlackChancery"/>
              </a:rPr>
              <a:t>Vienna</a:t>
            </a: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7a1f00"/>
                </a:outerShdw>
              </a:effectLst>
              <a:latin typeface="BlackChancery"/>
              <a:ea typeface="BlackChance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52280" y="228600"/>
            <a:ext cx="8839440" cy="15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acaee"/>
                </a:solidFill>
                <a:latin typeface="BlackChancery"/>
              </a:rPr>
              <a:t>Key Principles Established </a:t>
            </a:r>
            <a:br>
              <a:rPr sz="4900"/>
            </a:br>
            <a:r>
              <a:rPr b="0" lang="en-US" sz="4900" spc="-1" strike="noStrike">
                <a:solidFill>
                  <a:srgbClr val="cacaee"/>
                </a:solidFill>
                <a:latin typeface="BlackChancery"/>
              </a:rPr>
              <a:t>at Vienn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14600" y="2133720"/>
            <a:ext cx="4800600" cy="218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Balance of Pow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Legitima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ompens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143000" y="4724280"/>
            <a:ext cx="7620120" cy="188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Coalition forces would occupy France fo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3-5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ance would have to pay an indemnity of 700,000,000 fran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85800" y="1143000"/>
            <a:ext cx="81532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d20c"/>
                </a:solidFill>
                <a:latin typeface="Comic Sans MS"/>
              </a:rPr>
              <a:t>France was deprived of all </a:t>
            </a:r>
            <a:br>
              <a:rPr sz="2600"/>
            </a:br>
            <a:r>
              <a:rPr b="0" lang="en-US" sz="2600" spc="-1" strike="noStrike">
                <a:solidFill>
                  <a:srgbClr val="fad20c"/>
                </a:solidFill>
                <a:latin typeface="Comic Sans MS"/>
              </a:rPr>
              <a:t>territory conquered by Napolé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d20c"/>
                </a:solidFill>
                <a:latin typeface="Comic Sans MS"/>
              </a:rPr>
              <a:t>Russia was given most of Duchy </a:t>
            </a:r>
            <a:br>
              <a:rPr sz="2600"/>
            </a:br>
            <a:r>
              <a:rPr b="0" lang="en-US" sz="2600" spc="-1" strike="noStrike">
                <a:solidFill>
                  <a:srgbClr val="fad20c"/>
                </a:solidFill>
                <a:latin typeface="Comic Sans MS"/>
              </a:rPr>
              <a:t>of Warsaw (Polan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russia was given half of Saxony, parts of Poland, and other German territo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2600" spc="-1" strike="noStrike">
                <a:solidFill>
                  <a:srgbClr val="ff9f9f"/>
                </a:solidFill>
                <a:latin typeface="Comic Sans MS"/>
              </a:rPr>
              <a:t>Germanic Confederation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of 30+ states (including Prussia) was created from the previous 300, under Austrian ru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Austria was given back territory it had lost recently, plus more in Germany and Ital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House of Orange was given the Dutch Republic and the Austrian Netherlands to ru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52280" y="152280"/>
            <a:ext cx="8839440" cy="8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Changes Made at Vienna (1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ongress of Vienna  doc - Jun 9 1815"/>
          <p:cNvPicPr/>
          <p:nvPr/>
        </p:nvPicPr>
        <p:blipFill>
          <a:blip r:embed="rId1"/>
          <a:stretch/>
        </p:blipFill>
        <p:spPr>
          <a:xfrm>
            <a:off x="6705720" y="914400"/>
            <a:ext cx="2133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152280" y="182520"/>
            <a:ext cx="8991720" cy="152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The Germanic Confederation, 181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map-German Confederation-1815"/>
          <p:cNvPicPr/>
          <p:nvPr/>
        </p:nvPicPr>
        <p:blipFill>
          <a:blip r:embed="rId1"/>
          <a:stretch/>
        </p:blipFill>
        <p:spPr>
          <a:xfrm>
            <a:off x="2328840" y="990720"/>
            <a:ext cx="4834080" cy="5638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52280" y="76320"/>
            <a:ext cx="8839440" cy="8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Changes Made at Vienna (2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533520" y="990720"/>
            <a:ext cx="83055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Norway and Sweden were jo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neutrality of Switzerland was guarante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Hanover was enlarged, and made a kingd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Britain was given Cape Colony, South Africa, and various other colonies in Africa and As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ardinia was given Piedmont, Nice, Savoy, and Geno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Bourbon Ferdinand I was restored in the Two Sicil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Duchy of Parma was given to Marie Loui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slave trade was condemned (at British urging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eedom of navigation was guaranteed for many riv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76320"/>
            <a:ext cx="883944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acaee"/>
                </a:solidFill>
                <a:latin typeface="BlackChancery"/>
              </a:rPr>
              <a:t>Europe After the Congress of Vienn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map-Europe after the Congress of Vienna, 181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65160" y="990720"/>
            <a:ext cx="7340760" cy="5689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8" name="AutoShape 4">
            <a:hlinkClick r:id="rId2" action="ppaction://hlinksldjump"/>
          </p:cNvPr>
          <p:cNvSpPr/>
          <p:nvPr/>
        </p:nvSpPr>
        <p:spPr>
          <a:xfrm>
            <a:off x="85345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The Impact o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alance of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llective security: Quadruple Alliance (Russia, Britain, Austria, P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ngress System led to alliances all in hopes of putting down revolution and liberal ideology, but … failed to address nation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371600" y="1063800"/>
            <a:ext cx="670572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cacaee"/>
                </a:solidFill>
                <a:latin typeface="BlackChancery"/>
              </a:rPr>
              <a:t>What was the legacy of the Congress of Vienna?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iedrich Ludwig Jah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ather of gymna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Invented the parallel bars, the rings, vaulting horse, balance beam, and horizontal 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rschenschaf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member and Prussian patr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Jahn"/>
          <p:cNvPicPr/>
          <p:nvPr/>
        </p:nvPicPr>
        <p:blipFill>
          <a:blip r:embed="rId1"/>
          <a:stretch/>
        </p:blipFill>
        <p:spPr>
          <a:xfrm>
            <a:off x="714240" y="1447920"/>
            <a:ext cx="3503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ces at 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ing of serfs in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 of Vi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91120" y="4535640"/>
            <a:ext cx="8316000" cy="1191240"/>
          </a:xfrm>
          <a:prstGeom prst="rect">
            <a:avLst/>
          </a:pr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turn: add 8 more examples from Chapter 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category.  Read the entire chapter for this.  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523520"/>
            <a:ext cx="375444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er under Louis XV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chen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k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zzini Young Italy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French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giu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48 Rev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. and Fr. not joining Troppau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55680" y="1523520"/>
            <a:ext cx="375444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 of Vien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ternich’s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arc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t of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lsbad Dec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pau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ve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upl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so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mund Burke (1742-17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456840" y="1600200"/>
            <a:ext cx="4032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Q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lism lead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B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burkesm"/>
          <p:cNvPicPr/>
          <p:nvPr/>
        </p:nvPicPr>
        <p:blipFill>
          <a:blip r:embed="rId1"/>
          <a:stretch/>
        </p:blipFill>
        <p:spPr>
          <a:xfrm>
            <a:off x="914400" y="1905120"/>
            <a:ext cx="3336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914400" y="221400"/>
            <a:ext cx="7467480" cy="70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e the wor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d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 not the value of a starting-poi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f an actual goal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striven for. The word order desig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rting-point. I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only on order that freedom can be ba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er as a foundation the cry for freedom is no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the endeavour of some party or other for an end it has in view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ctually carried out in practice, that cry for freedom will inevitably express itself in tyrann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all times and in all situations I was a man of order, yet my endeavour was always for true and not for pretended libert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-Prince Mettern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onservat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deological position which upholds law and order, tradition, and autho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sistance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action to the liberal and nationalist ideas of the French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76320"/>
            <a:ext cx="883944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acaee"/>
                </a:solidFill>
                <a:latin typeface="BlackChancery"/>
              </a:rPr>
              <a:t>Europe in 181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ap-Napoleon’s Empire at Its Height, 181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092240" y="882720"/>
            <a:ext cx="7137360" cy="58165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>
            <a:hlinkClick r:id="rId2" action="ppaction://hlinksldjump"/>
          </p:cNvPr>
          <p:cNvSpPr/>
          <p:nvPr/>
        </p:nvSpPr>
        <p:spPr>
          <a:xfrm>
            <a:off x="84582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76320"/>
            <a:ext cx="8839440" cy="140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acaee"/>
                </a:solidFill>
                <a:latin typeface="BlackChancery"/>
              </a:rPr>
              <a:t>The Congress of Vienna</a:t>
            </a:r>
            <a:br>
              <a:rPr sz="5100"/>
            </a:br>
            <a:r>
              <a:rPr b="0" lang="en-US" sz="3500" spc="-1" strike="noStrike">
                <a:solidFill>
                  <a:srgbClr val="cacaee"/>
                </a:solidFill>
                <a:latin typeface="BlackChancery"/>
              </a:rPr>
              <a:t>(September 1, 1814 – June 9, 1815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ongress of Vienn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1600200"/>
            <a:ext cx="6629400" cy="501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182520"/>
            <a:ext cx="8458200" cy="22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Coin Commemorating the Opening of the Congress of Vienna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oin commemorating the opening of Congress of Vienna-back"/>
          <p:cNvPicPr/>
          <p:nvPr/>
        </p:nvPicPr>
        <p:blipFill>
          <a:blip r:embed="rId1"/>
          <a:stretch/>
        </p:blipFill>
        <p:spPr>
          <a:xfrm>
            <a:off x="4876920" y="2286000"/>
            <a:ext cx="3733560" cy="3697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2" name="Picture 5" descr="coin commemorating the opening of Congress of Vienna"/>
          <p:cNvPicPr/>
          <p:nvPr/>
        </p:nvPicPr>
        <p:blipFill>
          <a:blip r:embed="rId2"/>
          <a:stretch/>
        </p:blipFill>
        <p:spPr>
          <a:xfrm>
            <a:off x="685800" y="2287440"/>
            <a:ext cx="3733920" cy="3733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2280" y="349200"/>
            <a:ext cx="8839440" cy="87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acaee"/>
                </a:solidFill>
                <a:latin typeface="BlackChancery"/>
              </a:rPr>
              <a:t>Main Objective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1828800"/>
            <a:ext cx="8001000" cy="327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It’s job was to undo everything that Napoléon had do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1624"/>
              </a:spcBef>
              <a:buClr>
                <a:srgbClr val="ff9f9f"/>
              </a:buClr>
              <a:buFont typeface="DavysOtherDingbats"/>
              <a:buChar char="V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Reduce France to its old boundarie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to 1790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1624"/>
              </a:spcBef>
              <a:buClr>
                <a:srgbClr val="ff9f9f"/>
              </a:buClr>
              <a:buFont typeface="DavysOtherDingbats"/>
              <a:buChar char="V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Restore as many of the old monarchies as possible that had lost their thrones during the Napoléonic e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2280" y="76320"/>
            <a:ext cx="883944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acaee"/>
                </a:solidFill>
                <a:latin typeface="BlackChancery"/>
              </a:rPr>
              <a:t>Key Players </a:t>
            </a:r>
            <a:br>
              <a:rPr sz="5000"/>
            </a:br>
            <a:r>
              <a:rPr b="0" lang="en-US" sz="5000" spc="-1" strike="noStrike">
                <a:solidFill>
                  <a:srgbClr val="cacaee"/>
                </a:solidFill>
                <a:latin typeface="BlackChancery"/>
              </a:rPr>
              <a:t>at Vienn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allyrand"/>
          <p:cNvPicPr/>
          <p:nvPr/>
        </p:nvPicPr>
        <p:blipFill>
          <a:blip r:embed="rId1"/>
          <a:stretch/>
        </p:blipFill>
        <p:spPr>
          <a:xfrm>
            <a:off x="6973920" y="4038480"/>
            <a:ext cx="1865160" cy="2590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7" name="Picture 5" descr="Castlereagh"/>
          <p:cNvPicPr/>
          <p:nvPr/>
        </p:nvPicPr>
        <p:blipFill>
          <a:blip r:embed="rId2"/>
          <a:stretch/>
        </p:blipFill>
        <p:spPr>
          <a:xfrm>
            <a:off x="7203960" y="380880"/>
            <a:ext cx="1559160" cy="2286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8" name="Picture 6" descr="Czar Alexander I"/>
          <p:cNvPicPr/>
          <p:nvPr/>
        </p:nvPicPr>
        <p:blipFill>
          <a:blip r:embed="rId3"/>
          <a:stretch/>
        </p:blipFill>
        <p:spPr>
          <a:xfrm>
            <a:off x="465120" y="762120"/>
            <a:ext cx="1744560" cy="2057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9" name="Picture 7" descr="Metternich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3487680" y="1752480"/>
            <a:ext cx="2130480" cy="2819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0" name="Picture 8" descr="Prus-Frederick William III"/>
          <p:cNvPicPr/>
          <p:nvPr/>
        </p:nvPicPr>
        <p:blipFill>
          <a:blip r:embed="rId5"/>
          <a:stretch/>
        </p:blipFill>
        <p:spPr>
          <a:xfrm>
            <a:off x="533520" y="3809880"/>
            <a:ext cx="1658880" cy="2133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1" name="Text Box 9"/>
          <p:cNvSpPr/>
          <p:nvPr/>
        </p:nvSpPr>
        <p:spPr>
          <a:xfrm>
            <a:off x="3333600" y="4648320"/>
            <a:ext cx="2438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 “Host”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rince Klemens von Metternich (Aus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715000" y="2743200"/>
            <a:ext cx="327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Foreign Minister,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Viscount Castlereagh (Br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52280" y="2819520"/>
            <a:ext cx="2438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sar Alexander I (Rus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52280" y="5943600"/>
            <a:ext cx="2438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King Frederick William III (Prus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124080" y="6064200"/>
            <a:ext cx="3810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Foreign Minister, Charles Maurice de Tallyrand (Fr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4:51:26Z</dcterms:created>
  <dc:creator>Ms. Susan M. Pojer</dc:creator>
  <dc:description/>
  <dc:language>en-US</dc:language>
  <cp:lastModifiedBy>plouffeh</cp:lastModifiedBy>
  <dcterms:modified xsi:type="dcterms:W3CDTF">2008-02-27T19:02:42Z</dcterms:modified>
  <cp:revision>86</cp:revision>
  <dc:subject/>
  <dc:title>The Congress of Vienna</dc:title>
</cp:coreProperties>
</file>